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jpeg" ContentType="image/jpeg"/>
  <Override PartName="/ppt/media/image6.png" ContentType="image/png"/>
  <Override PartName="/ppt/media/image2.png" ContentType="image/png"/>
  <Override PartName="/ppt/media/image10.wmf" ContentType="image/x-wmf"/>
  <Override PartName="/ppt/media/image15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14.jpeg" ContentType="image/jpe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1F9B-C65B-4339-80FF-0B4F12B7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4B72-A7C3-4DAA-9CAC-311BC4E7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B503D-DA75-4ED6-90F4-5270CD2A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B4940-2353-4294-8C66-6A9C4026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7BBB1-4968-4913-B7AD-D5A1398D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B1D9F-8478-4E2C-8C16-64948A6D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0B8EA-A0C6-44E3-83F5-61B6E012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FC022-F4E6-45FB-9CC3-CA449431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CF457-C167-49FE-86E9-00F21A22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06266-9EFC-47D2-AA49-85407EB1C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B71D9-886A-4DD4-947E-09FB460A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7B4C4-F426-4D9C-9C23-EA00D22C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AD32-C71E-4FF0-81B2-CDDC143AD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A33C86-63BE-4671-9C9F-183D987F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A744C-AA82-4C9D-A758-B1B0D7BA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1F7A46-6424-4D53-A563-7B37EDA8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634BD-CB6D-4DDC-B106-DF50D45D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17CA01-6548-466B-934E-CABFF50A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FD1D3-2E9C-4667-B722-19C2B58F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31D82-6B82-4027-B3AA-64E27DFA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C2831-BE73-4598-ACB6-0AC2ADF3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15FC0-9718-4E87-954D-5DDC123B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CAB36-9507-44E8-96BD-90F0FE21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CCC4-5D83-4D2A-9972-1C6C943A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DA256-5C1C-4936-9474-EE4CBDBF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13EBB-231E-46A0-AC6F-01FD81787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E5D74-DCA5-4F80-B977-C59344DA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0CC16-34C3-40F7-AAE2-25B913E6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CA5E7-9DFA-4973-8E52-BE711ACD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9D12E-2320-483D-9427-61ED20C1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48EE4-249A-4513-BA63-3CBA814A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4F26A-E5B3-42AF-9EFB-5454FD26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73FDF-964D-4D26-8F0D-16D04D98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FBCE5-91CC-43D0-9B22-471644C0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5068-186C-4F7A-B3CA-0FBCD3F46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ED14E-6245-44D1-8F41-0122506F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E95B0-F8B6-4683-91FD-98049FDA8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F5B66-82AC-41B9-B623-49FCFE71E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FD3E9B-7353-4E31-94E6-B5568A07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A56C6-8E67-42A6-88D1-5D8000F6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1CF9A1-8BD4-4D66-8CF5-BF89B8B7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2021B5-5572-4057-8610-9B0F6BE6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196B8-EEAB-43F7-9DF1-1015FCB4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14EE31-76AC-458B-A4B2-E9CFD83D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067F70-2836-4FA0-B979-46E3D26E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A316-D221-44D0-B2CA-EC6AAB33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F632E4-B5B1-4143-BD80-7C8E10F4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F0367-BFBC-423E-8FFA-9FFE7538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5B33DC-0525-410E-810A-AEDC24A8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A370F-B6EE-45F1-B1CD-B72B82E34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C59C1-8282-4CE1-9C88-17BD87EA4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7239CF-9382-4D49-A04E-D902DF577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27DCC0-388D-4B1D-B2E8-264A10F7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2F42D5-27B6-4415-B795-E777F6B4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5BAD13-8DC0-4869-B9DE-D5672157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252FCD-F450-4EF8-A12B-D0CF2322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C70C-D3D4-41D0-81EC-2DAC27FF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AAC4BF-1C07-455B-A793-BAF4B524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F451E1-0BC6-49B6-8192-4EECB719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39EBD7-96D4-435B-9BA7-3830B79E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A97097-23F2-4965-978A-4FE91BF4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C92154-1D13-4130-B0F8-3A794DE5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A93F4A-1B59-46BC-8D39-40F0A3C2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2789A2-1A49-42D7-93DB-96FE7673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91A0E3-C4B5-4776-B9CD-B33036F9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F50204-F583-4FA7-901F-D07ED908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DB6518-045C-4536-B762-2BCE6BDF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4E67-0D4A-4E91-81D6-F4B34776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18BDDF-89F9-4EB7-8CF3-9F8DF02C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D8E60D-C521-4A29-95B7-8A159C73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FD9EC1-84F3-4350-9567-D7D776D9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33757A-A286-4FF3-A858-CD7980F9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620CBA-B349-4AAF-A1BE-CB96B1CB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478E73-DD14-4441-BD42-8B3A9AF6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758A63-1FC8-4A9C-BD2F-7E9CC288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CDEA5D-0E81-45FB-9F21-6CF5BF698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B5690C-2277-472F-B256-6F6F3791A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0F8957-5CF8-4D87-BFE1-2201E66FA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5FD1-2A50-4D6F-BC80-E18D23F7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0B3DC2-76E2-413B-B708-FF369F0A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9C752C-A15F-4AF6-8CF7-E2D62242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BDE5F7-9B46-41A3-AFE6-DEE7505F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749A7E-7A13-4814-8F68-AFD75749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57CBCE-7FD1-4BD4-8D7A-D9FC4F81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B2547D-3643-4803-9FEE-D6D67749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7FA720-4CDD-46FF-A490-68B669B1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1DF513-AE7C-4AA7-8D55-B3335A02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D6F401-41B1-49A1-BCF9-D8D07526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CF9DE6-E481-4546-B65D-BE0B6302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06A6-BDCD-4BE2-8787-DDE415DD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2CFC8C-62C3-43A7-AB57-66423DB5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DD39-83DA-43EA-95F7-4C578C49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CD64-2301-4A36-BA1C-964E36A1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04E0-7DC6-42AB-A890-24393D6F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AC8C-6E77-4D7F-AA02-D3F5DCE0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9EBE-63EF-4C9D-A2A2-4BC44636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DE80-39B9-4E87-98BA-07182514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9896-1B71-4791-BE46-225A6381C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9AFB5-5EEB-48CC-83CB-93DD3A7F3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A178F-B58D-477B-9A57-38F7AD03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42E07-5B25-4D3C-86DC-14F5F0A6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4F0AB-CDC5-4E2B-94A8-7F3D8E78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B5A48-9989-4503-95E7-2057F0C1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80EF-3F62-4148-A9DD-DEF19E11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745DF-3869-4EAF-9E9E-7E065583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9DFF3-B66F-42E0-8828-A19411A7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0EA6E-3458-4B3F-BB83-B6537B2F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042FF-1B12-413B-B55C-DEC4B05B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E0F65-85D7-477B-B56D-64ADAF34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67784-5D59-44F8-8B42-75958F68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59D02-5F4D-4789-932A-D4ECAB5E1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D520C-3334-49EA-8EAF-2152906B4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4C074-3976-4F40-A44E-550DA19B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F7F01-EFBB-4897-AFC3-DAE05AC7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0FC9-9253-45DA-9C48-6100EB89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B86CF-382D-410F-A605-329B7995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5CCC3-F905-4B5E-B85D-E7F8C0B8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8B42F-F6EA-4F6B-98A6-BD118D5C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86C72-A5F8-444B-8E82-E21DB6AD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C507D-496D-4653-99DA-216E3CDB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D2A35-3BFF-4030-B1A4-6562B731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B14C8-594C-469D-800D-D2A6E722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9D02C-6011-4A60-B0C5-EABA88776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7149E-B635-43A9-A599-F48F6D4CE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BB15A-8363-4657-80F2-BF7DE47F4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B0F2-7007-4F00-8007-326ED832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2854C-CDD6-4A4E-9AAF-922354E9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F0324-AD32-4332-8012-FE21D0C2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9D1EB-4D80-44C0-B8EE-334D3302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CB71B-6E67-4D9C-95F2-54906542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8C14B-E240-4368-9EAD-0D94EC51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73A6E-FB3D-4DAE-BCB0-418CF425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7537C-4AA3-491D-9FB9-B2239739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ED95C-5EE9-4331-9520-CD4FD3E9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96B9F-594E-4E3A-99D3-99BA1548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6A161-2D59-4602-97B8-BE1C5B4D0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803D-556F-44A3-9D30-1C37FA1C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E16D8-86C1-433A-BD3E-309E1A5AC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5D3F0-AC11-43BF-8A3A-4E5D7D974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6E5CE-555D-412D-8219-35D32852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A5786-61F3-493B-8121-C52A14F0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7797C-BA67-49C8-9D7D-9B6B6C57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BFAB2-9F7D-4ADE-8180-E90EF04C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8690E-4FEC-44AC-A92A-3BBF0C4F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1A462-B6C7-4FCB-989E-4CFD343A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D3401-0E6E-488A-A04E-3BE656FD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A95B0-CAD0-4103-AB69-10AB70AA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264E-A62C-4C60-A3F5-45077D4B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97072-1384-4CF9-970C-9DEE97D2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C99F5-E711-46D2-AC48-FFCC25502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F0D66-C17A-4AA3-9A48-E697EAD19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99E92-C823-4FF4-AC83-DEFA358A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2C1E1-46E7-4BE7-8049-14F042DB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5DA0D-D9F0-4BCC-A12B-BD2340BD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E2B47-E69A-4795-A770-0FDCBC8D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77CB4-8512-41E9-A70D-824BF6C2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2FE7A-275F-4905-B1EE-F245330E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28CD0-96BE-41EC-8E35-7FF7F389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81D1-2ED1-477C-A1B2-9296E9E2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23A07-D6C0-45EE-8C57-9150EED8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EB7A4-B4C5-4170-A363-1481F1DD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C41D3-CE46-4570-99D6-C0259889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E3B9F-5D4E-473E-A306-F02441686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025A6-4B8A-40A7-A5B1-78A585D9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6409E-1A16-48C9-A185-AB0C7DCA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543A4-D6D8-4D41-9CA5-F05DAE3B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784CB-2FCD-42A2-A253-525E8D98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029F5-680B-406A-993C-9C03117F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56F68-957E-4202-9637-A1C1080B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6247-601B-4A46-A3D2-E9820548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26739-F0B4-4656-A3FC-36535D80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59D9F-B178-415C-A284-A8B12921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28C90-5E96-49F7-97A1-D223C893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EDC82-5A27-448B-9BAD-598013CE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53C28-60C0-4E73-9B75-8CD86981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F6139-046C-4CB2-B7F5-75B82858F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E43AD-9EF6-43AB-B7AA-171DEDE3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30E3A-992E-494F-BA44-D90B9DD0C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C805C-ED02-4F37-8408-25106A0B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88C56-44B2-4E20-98DF-6876070D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A91BCB-15B3-410F-945D-5E109B5E5E8D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9DEEDC-1157-4868-B153-9A4AF24659FC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shortRule.png"/>
          <p:cNvPicPr/>
          <p:nvPr/>
        </p:nvPicPr>
        <p:blipFill>
          <a:blip r:embed="rId4"/>
          <a:stretch/>
        </p:blipFill>
        <p:spPr>
          <a:xfrm>
            <a:off x="3324240" y="4665600"/>
            <a:ext cx="249552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DE1FC7-11C1-4CC7-AF5C-1E157F44DE8C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87CAA2-E4F5-4DD1-8CAD-82A6C29D30F4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parAvion.png"/>
          <p:cNvPicPr/>
          <p:nvPr/>
        </p:nvPicPr>
        <p:blipFill>
          <a:blip r:embed="rId4"/>
          <a:stretch/>
        </p:blipFill>
        <p:spPr>
          <a:xfrm rot="307800">
            <a:off x="6835680" y="279000"/>
            <a:ext cx="1695600" cy="4842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9" descr="shortRule.png"/>
          <p:cNvPicPr/>
          <p:nvPr/>
        </p:nvPicPr>
        <p:blipFill>
          <a:blip r:embed="rId5"/>
          <a:stretch/>
        </p:blipFill>
        <p:spPr>
          <a:xfrm>
            <a:off x="3324240" y="4665600"/>
            <a:ext cx="249552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436" name="Picture 10" descr="parAvion.png"/>
          <p:cNvPicPr/>
          <p:nvPr/>
        </p:nvPicPr>
        <p:blipFill>
          <a:blip r:embed="rId6"/>
          <a:stretch/>
        </p:blipFill>
        <p:spPr>
          <a:xfrm rot="20785200">
            <a:off x="2865600" y="3182400"/>
            <a:ext cx="1697040" cy="48420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67C1B4-4F6B-47C5-B18D-30274EE59588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2E332C-E2F0-4BD2-A64D-15ED644F26FD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97850E-124A-449C-90D2-8E43487485B5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2373E0-FA1B-495C-89CA-1424C9C4C669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8" descr="parAvion.png"/>
          <p:cNvPicPr/>
          <p:nvPr/>
        </p:nvPicPr>
        <p:blipFill>
          <a:blip r:embed="rId4"/>
          <a:stretch/>
        </p:blipFill>
        <p:spPr>
          <a:xfrm rot="307800">
            <a:off x="7427880" y="2619000"/>
            <a:ext cx="1581120" cy="4507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9" descr="pictureStamp-Frame.png"/>
          <p:cNvPicPr/>
          <p:nvPr/>
        </p:nvPicPr>
        <p:blipFill>
          <a:blip r:embed="rId5"/>
          <a:stretch/>
        </p:blipFill>
        <p:spPr>
          <a:xfrm rot="322200">
            <a:off x="6338880" y="604800"/>
            <a:ext cx="1611360" cy="2024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0" descr="pictureStamp-Frame.png"/>
          <p:cNvPicPr/>
          <p:nvPr/>
        </p:nvPicPr>
        <p:blipFill>
          <a:blip r:embed="rId6"/>
          <a:stretch/>
        </p:blipFill>
        <p:spPr>
          <a:xfrm rot="322200">
            <a:off x="4890960" y="985680"/>
            <a:ext cx="1611360" cy="202428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7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9D59E1-413A-4F5D-9664-050986C38899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8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9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3FE57E-0AE2-43E2-9DC4-4B7BF06CC003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6823BC-A5F2-41F7-A4E8-F263E6717632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BEE648-FA50-4B95-B4C8-EF3ACC205654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7" descr="verticalRule.png"/>
          <p:cNvPicPr/>
          <p:nvPr/>
        </p:nvPicPr>
        <p:blipFill>
          <a:blip r:embed="rId4"/>
          <a:stretch/>
        </p:blipFill>
        <p:spPr>
          <a:xfrm>
            <a:off x="6513480" y="1562040"/>
            <a:ext cx="152280" cy="3733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43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F337B5-BA18-4E0C-A8AF-52CA16BE1ACD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44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45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8B0E4C-CB38-422F-A940-BFF3898EEB2F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standardRule.png"/>
          <p:cNvPicPr/>
          <p:nvPr/>
        </p:nvPicPr>
        <p:blipFill>
          <a:blip r:embed="rId4"/>
          <a:stretch/>
        </p:blipFill>
        <p:spPr>
          <a:xfrm>
            <a:off x="2705040" y="4191120"/>
            <a:ext cx="3733920" cy="152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0F4101-E4ED-4CD3-89A5-49A6705EC447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F4FCC9-042E-4AEF-99A4-2B73038991FD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CC6038-82F1-4256-9E04-33B4BB01E7EC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782187-E041-451D-82F1-C5EC01C5CE87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standardRule.png"/>
          <p:cNvPicPr/>
          <p:nvPr/>
        </p:nvPicPr>
        <p:blipFill>
          <a:blip r:embed="rId4"/>
          <a:stretch/>
        </p:blipFill>
        <p:spPr>
          <a:xfrm>
            <a:off x="2705040" y="4572000"/>
            <a:ext cx="3733920" cy="152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130" name="Picture 9" descr="pictureStamp-Frame.png"/>
          <p:cNvPicPr/>
          <p:nvPr/>
        </p:nvPicPr>
        <p:blipFill>
          <a:blip r:embed="rId5"/>
          <a:stretch/>
        </p:blipFill>
        <p:spPr>
          <a:xfrm rot="21366600">
            <a:off x="5138280" y="599760"/>
            <a:ext cx="1609920" cy="2025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pictureStamp-Frame.png"/>
          <p:cNvPicPr/>
          <p:nvPr/>
        </p:nvPicPr>
        <p:blipFill>
          <a:blip r:embed="rId6"/>
          <a:stretch/>
        </p:blipFill>
        <p:spPr>
          <a:xfrm rot="21329400">
            <a:off x="2073240" y="555480"/>
            <a:ext cx="1609920" cy="2025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pictureStamp-Frame.png"/>
          <p:cNvPicPr/>
          <p:nvPr/>
        </p:nvPicPr>
        <p:blipFill>
          <a:blip r:embed="rId7"/>
          <a:stretch/>
        </p:blipFill>
        <p:spPr>
          <a:xfrm rot="151200">
            <a:off x="3592440" y="936360"/>
            <a:ext cx="1609920" cy="2023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7640A5-EF80-4BAF-B6CD-D5761A7B4B49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842EFD-49EB-403C-B467-5BAC31DDD1AE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33526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B393B0-AB45-4058-A769-C50E0C81AB50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BF9410-C08A-4E2F-9D28-CC24FB893853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F416E2-6934-4AA4-AD71-42EC6BECA62F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8D7C19-4D1B-421E-9529-97CE7771BCD6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19DCF5-49FA-4F2B-99F6-64A16F9B1976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FF566F-379E-4F8F-8F59-0A565B091F80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" descr="shortRule.png"/>
          <p:cNvPicPr/>
          <p:nvPr/>
        </p:nvPicPr>
        <p:blipFill>
          <a:blip r:embed="rId4"/>
          <a:stretch/>
        </p:blipFill>
        <p:spPr>
          <a:xfrm>
            <a:off x="1222200" y="2305080"/>
            <a:ext cx="249588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A91329-C4BF-4312-ABBE-F1A6D9AB1900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286DD8-4A0C-4A96-8926-FD48538C17D3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shortRule.png"/>
          <p:cNvPicPr/>
          <p:nvPr/>
        </p:nvPicPr>
        <p:blipFill>
          <a:blip r:embed="rId4"/>
          <a:stretch/>
        </p:blipFill>
        <p:spPr>
          <a:xfrm>
            <a:off x="1222200" y="2305080"/>
            <a:ext cx="249588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348" name="Picture 8" descr="parAvion.png"/>
          <p:cNvPicPr/>
          <p:nvPr/>
        </p:nvPicPr>
        <p:blipFill>
          <a:blip r:embed="rId5"/>
          <a:stretch/>
        </p:blipFill>
        <p:spPr>
          <a:xfrm rot="307800">
            <a:off x="6797160" y="537840"/>
            <a:ext cx="1808280" cy="51732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899A59-9464-42CC-B6A8-C07F9FA5872E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D787A8-F9C5-4497-A984-8E12371628D6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71320" y="763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sto MT"/>
              </a:rPr>
              <a:t>From Here to Relevance: A Web 2.0 Journey</a:t>
            </a:r>
            <a:endParaRPr b="0" lang="en-US" sz="5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571320" y="21337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GAC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sto MT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 Century Learning Fair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653" name="Picture 4" descr="flame_vessel_plutarch.jpg"/>
          <p:cNvPicPr/>
          <p:nvPr/>
        </p:nvPicPr>
        <p:blipFill>
          <a:blip r:embed="rId1"/>
          <a:stretch/>
        </p:blipFill>
        <p:spPr>
          <a:xfrm>
            <a:off x="2133720" y="3111480"/>
            <a:ext cx="464796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sto MT"/>
              </a:rPr>
              <a:t>How to document progress?</a:t>
            </a:r>
            <a:endParaRPr b="0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380520" y="159984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sto MT"/>
              </a:rPr>
              <a:t>Wikis with notes</a:t>
            </a:r>
            <a:endParaRPr b="0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22" name="Content Placeholder 2"/>
          <p:cNvSpPr/>
          <p:nvPr/>
        </p:nvSpPr>
        <p:spPr>
          <a:xfrm>
            <a:off x="1676520" y="2438280"/>
            <a:ext cx="7315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NING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Content Placeholder 2"/>
          <p:cNvSpPr/>
          <p:nvPr/>
        </p:nvSpPr>
        <p:spPr>
          <a:xfrm>
            <a:off x="571680" y="3200400"/>
            <a:ext cx="8420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Lesson plan lib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Content Placeholder 2"/>
          <p:cNvSpPr/>
          <p:nvPr/>
        </p:nvSpPr>
        <p:spPr>
          <a:xfrm>
            <a:off x="571680" y="4762440"/>
            <a:ext cx="53719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Content Placeholder 2"/>
          <p:cNvSpPr/>
          <p:nvPr/>
        </p:nvSpPr>
        <p:spPr>
          <a:xfrm>
            <a:off x="1486080" y="3924360"/>
            <a:ext cx="75056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Timeline on the 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Content Placeholder 2"/>
          <p:cNvSpPr/>
          <p:nvPr/>
        </p:nvSpPr>
        <p:spPr>
          <a:xfrm>
            <a:off x="1486080" y="548640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9" descr="j0285758"/>
          <p:cNvPicPr/>
          <p:nvPr/>
        </p:nvPicPr>
        <p:blipFill>
          <a:blip r:embed="rId1"/>
          <a:stretch/>
        </p:blipFill>
        <p:spPr>
          <a:xfrm flipH="1">
            <a:off x="7085160" y="5046840"/>
            <a:ext cx="1487520" cy="12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10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8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404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412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What’s our vision?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80880" y="1904760"/>
            <a:ext cx="2781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sto MT"/>
              </a:rPr>
              <a:t>2010</a:t>
            </a:r>
            <a:endParaRPr b="0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6" name="Content Placeholder 2"/>
          <p:cNvSpPr/>
          <p:nvPr/>
        </p:nvSpPr>
        <p:spPr>
          <a:xfrm>
            <a:off x="3238560" y="1905120"/>
            <a:ext cx="5334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1 to 1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Content Placeholder 2"/>
          <p:cNvSpPr/>
          <p:nvPr/>
        </p:nvSpPr>
        <p:spPr>
          <a:xfrm>
            <a:off x="1447920" y="2895480"/>
            <a:ext cx="7124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student-center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Content Placeholder 2"/>
          <p:cNvSpPr/>
          <p:nvPr/>
        </p:nvSpPr>
        <p:spPr>
          <a:xfrm>
            <a:off x="5638680" y="3886200"/>
            <a:ext cx="3238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creativity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Content Placeholder 2"/>
          <p:cNvSpPr/>
          <p:nvPr/>
        </p:nvSpPr>
        <p:spPr>
          <a:xfrm>
            <a:off x="380880" y="3809880"/>
            <a:ext cx="3848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col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Content Placeholder 2"/>
          <p:cNvSpPr/>
          <p:nvPr/>
        </p:nvSpPr>
        <p:spPr>
          <a:xfrm>
            <a:off x="1981080" y="4724280"/>
            <a:ext cx="4953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communicatio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Content Placeholder 2"/>
          <p:cNvSpPr/>
          <p:nvPr/>
        </p:nvSpPr>
        <p:spPr>
          <a:xfrm>
            <a:off x="3886200" y="5486400"/>
            <a:ext cx="5257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problem-solving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11" descr="j0345396"/>
          <p:cNvPicPr/>
          <p:nvPr/>
        </p:nvPicPr>
        <p:blipFill>
          <a:blip r:embed="rId1"/>
          <a:stretch/>
        </p:blipFill>
        <p:spPr>
          <a:xfrm>
            <a:off x="380880" y="5181480"/>
            <a:ext cx="1409760" cy="13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10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9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3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0"/>
                            </p:stCondLst>
                            <p:childTnLst>
                              <p:par>
                                <p:cTn id="5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040" y="317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What’s our objective?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380880" y="1599840"/>
            <a:ext cx="65534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sto MT"/>
              </a:rPr>
              <a:t>Pedagogy change</a:t>
            </a:r>
            <a:endParaRPr b="0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5" name="Content Placeholder 2"/>
          <p:cNvSpPr/>
          <p:nvPr/>
        </p:nvSpPr>
        <p:spPr>
          <a:xfrm>
            <a:off x="3238560" y="2286000"/>
            <a:ext cx="5905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Curriculum change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Content Placeholder 2"/>
          <p:cNvSpPr/>
          <p:nvPr/>
        </p:nvSpPr>
        <p:spPr>
          <a:xfrm>
            <a:off x="914400" y="2895480"/>
            <a:ext cx="7124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Student-centered lesson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Content Placeholder 2"/>
          <p:cNvSpPr/>
          <p:nvPr/>
        </p:nvSpPr>
        <p:spPr>
          <a:xfrm>
            <a:off x="1981080" y="4191120"/>
            <a:ext cx="3238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creativity,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Content Placeholder 2"/>
          <p:cNvSpPr/>
          <p:nvPr/>
        </p:nvSpPr>
        <p:spPr>
          <a:xfrm>
            <a:off x="1981080" y="3581280"/>
            <a:ext cx="5257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with collaboration,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Content Placeholder 2"/>
          <p:cNvSpPr/>
          <p:nvPr/>
        </p:nvSpPr>
        <p:spPr>
          <a:xfrm>
            <a:off x="1981080" y="4800600"/>
            <a:ext cx="4953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communicatio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Content Placeholder 2"/>
          <p:cNvSpPr/>
          <p:nvPr/>
        </p:nvSpPr>
        <p:spPr>
          <a:xfrm>
            <a:off x="1981080" y="5410080"/>
            <a:ext cx="5257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and problem-solving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14" descr="j0350105"/>
          <p:cNvPicPr/>
          <p:nvPr/>
        </p:nvPicPr>
        <p:blipFill>
          <a:blip r:embed="rId1"/>
          <a:stretch/>
        </p:blipFill>
        <p:spPr>
          <a:xfrm>
            <a:off x="334800" y="274680"/>
            <a:ext cx="115740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How to assess change?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380520" y="1599840"/>
            <a:ext cx="8191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70080" indent="-37008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sto MT"/>
              </a:rPr>
              <a:t>Lesson plans/observations</a:t>
            </a:r>
            <a:endParaRPr b="0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74" name="Content Placeholder 2"/>
          <p:cNvSpPr/>
          <p:nvPr/>
        </p:nvSpPr>
        <p:spPr>
          <a:xfrm>
            <a:off x="1676520" y="2438280"/>
            <a:ext cx="7315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Teachers teaching teac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Content Placeholder 2"/>
          <p:cNvSpPr/>
          <p:nvPr/>
        </p:nvSpPr>
        <p:spPr>
          <a:xfrm>
            <a:off x="571680" y="3200400"/>
            <a:ext cx="8420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Collaboration between teac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Content Placeholder 2"/>
          <p:cNvSpPr/>
          <p:nvPr/>
        </p:nvSpPr>
        <p:spPr>
          <a:xfrm>
            <a:off x="571680" y="4762440"/>
            <a:ext cx="3238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Survey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Content Placeholder 2"/>
          <p:cNvSpPr/>
          <p:nvPr/>
        </p:nvSpPr>
        <p:spPr>
          <a:xfrm>
            <a:off x="1486080" y="3924360"/>
            <a:ext cx="75056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Conversations on the 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Content Placeholder 2"/>
          <p:cNvSpPr/>
          <p:nvPr/>
        </p:nvSpPr>
        <p:spPr>
          <a:xfrm>
            <a:off x="1486080" y="5486400"/>
            <a:ext cx="4952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Excitemen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10" descr="MCj02375390000[1]"/>
          <p:cNvPicPr/>
          <p:nvPr/>
        </p:nvPicPr>
        <p:blipFill>
          <a:blip r:embed="rId1"/>
          <a:stretch/>
        </p:blipFill>
        <p:spPr>
          <a:xfrm>
            <a:off x="6438960" y="5016600"/>
            <a:ext cx="213372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How to network?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380520" y="1599840"/>
            <a:ext cx="8191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70080" indent="-37008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sto MT"/>
              </a:rPr>
              <a:t>Share through notes on wiki</a:t>
            </a:r>
            <a:endParaRPr b="0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82" name="Content Placeholder 2"/>
          <p:cNvSpPr/>
          <p:nvPr/>
        </p:nvSpPr>
        <p:spPr>
          <a:xfrm>
            <a:off x="1676520" y="2666880"/>
            <a:ext cx="7315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Teachers teaching teac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Content Placeholder 2"/>
          <p:cNvSpPr/>
          <p:nvPr/>
        </p:nvSpPr>
        <p:spPr>
          <a:xfrm>
            <a:off x="1486080" y="4152960"/>
            <a:ext cx="800100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Conversations with experts around the world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Content Placeholder 2"/>
          <p:cNvSpPr/>
          <p:nvPr/>
        </p:nvSpPr>
        <p:spPr>
          <a:xfrm>
            <a:off x="571680" y="3295800"/>
            <a:ext cx="75056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Conversations on the 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Content Placeholder 2"/>
          <p:cNvSpPr/>
          <p:nvPr/>
        </p:nvSpPr>
        <p:spPr>
          <a:xfrm>
            <a:off x="723960" y="5715000"/>
            <a:ext cx="7353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Electricity and Excitemen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Picture 10" descr="j0250895"/>
          <p:cNvPicPr/>
          <p:nvPr/>
        </p:nvPicPr>
        <p:blipFill>
          <a:blip r:embed="rId1"/>
          <a:stretch/>
        </p:blipFill>
        <p:spPr>
          <a:xfrm>
            <a:off x="380880" y="237960"/>
            <a:ext cx="133524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1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1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4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What do we propose?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380520" y="1599840"/>
            <a:ext cx="8191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sto MT"/>
              </a:rPr>
              <a:t>21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alisto MT"/>
              </a:rPr>
              <a:t>st</a:t>
            </a:r>
            <a:r>
              <a:rPr b="0" lang="en-US" sz="4800" spc="-1" strike="noStrike">
                <a:solidFill>
                  <a:srgbClr val="000000"/>
                </a:solidFill>
                <a:latin typeface="Calisto MT"/>
              </a:rPr>
              <a:t> Century Learning Fair</a:t>
            </a:r>
            <a:endParaRPr b="0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689" name="Picture 9" descr="21st Learning Fair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5486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10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How do we evaluate?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380520" y="1599840"/>
            <a:ext cx="8191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70080" indent="-37008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sto MT"/>
              </a:rPr>
              <a:t>Lesson plans/observations</a:t>
            </a:r>
            <a:endParaRPr b="0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92" name="Content Placeholder 2"/>
          <p:cNvSpPr/>
          <p:nvPr/>
        </p:nvSpPr>
        <p:spPr>
          <a:xfrm>
            <a:off x="1676520" y="2438280"/>
            <a:ext cx="7315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Teachers teaching teac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Content Placeholder 2"/>
          <p:cNvSpPr/>
          <p:nvPr/>
        </p:nvSpPr>
        <p:spPr>
          <a:xfrm>
            <a:off x="571680" y="3200400"/>
            <a:ext cx="8420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Collaboration between teac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Content Placeholder 2"/>
          <p:cNvSpPr/>
          <p:nvPr/>
        </p:nvSpPr>
        <p:spPr>
          <a:xfrm>
            <a:off x="571680" y="4762440"/>
            <a:ext cx="3238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Survey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Content Placeholder 2"/>
          <p:cNvSpPr/>
          <p:nvPr/>
        </p:nvSpPr>
        <p:spPr>
          <a:xfrm>
            <a:off x="1486080" y="3924360"/>
            <a:ext cx="75056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Conversations on the 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Content Placeholder 2"/>
          <p:cNvSpPr/>
          <p:nvPr/>
        </p:nvSpPr>
        <p:spPr>
          <a:xfrm>
            <a:off x="1486080" y="5486400"/>
            <a:ext cx="4952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Excitemen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9" descr="MCj02375390000[1]"/>
          <p:cNvPicPr/>
          <p:nvPr/>
        </p:nvPicPr>
        <p:blipFill>
          <a:blip r:embed="rId1"/>
          <a:stretch/>
        </p:blipFill>
        <p:spPr>
          <a:xfrm>
            <a:off x="6438960" y="5016600"/>
            <a:ext cx="213372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10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9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5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3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What’s next?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380520" y="159984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70080" indent="-37008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sto MT"/>
              </a:rPr>
              <a:t>Summer workshop, June 9-11</a:t>
            </a:r>
            <a:endParaRPr b="0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00" name="Content Placeholder 2"/>
          <p:cNvSpPr/>
          <p:nvPr/>
        </p:nvSpPr>
        <p:spPr>
          <a:xfrm>
            <a:off x="1676520" y="2438280"/>
            <a:ext cx="7315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Teachers teaching teac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Content Placeholder 2"/>
          <p:cNvSpPr/>
          <p:nvPr/>
        </p:nvSpPr>
        <p:spPr>
          <a:xfrm>
            <a:off x="571680" y="3200400"/>
            <a:ext cx="8420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Collaboration between teac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Content Placeholder 2"/>
          <p:cNvSpPr/>
          <p:nvPr/>
        </p:nvSpPr>
        <p:spPr>
          <a:xfrm>
            <a:off x="571680" y="4762440"/>
            <a:ext cx="53719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Student laptop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Content Placeholder 2"/>
          <p:cNvSpPr/>
          <p:nvPr/>
        </p:nvSpPr>
        <p:spPr>
          <a:xfrm>
            <a:off x="1486080" y="3924360"/>
            <a:ext cx="75056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Teacher lapt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Content Placeholder 2"/>
          <p:cNvSpPr/>
          <p:nvPr/>
        </p:nvSpPr>
        <p:spPr>
          <a:xfrm>
            <a:off x="1486080" y="548640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Excitement all around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12" descr="j0285758"/>
          <p:cNvPicPr/>
          <p:nvPr/>
        </p:nvPicPr>
        <p:blipFill>
          <a:blip r:embed="rId1"/>
          <a:stretch/>
        </p:blipFill>
        <p:spPr>
          <a:xfrm>
            <a:off x="990720" y="322200"/>
            <a:ext cx="136980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10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7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5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3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Timeline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07" name="Line 4"/>
          <p:cNvSpPr/>
          <p:nvPr/>
        </p:nvSpPr>
        <p:spPr>
          <a:xfrm>
            <a:off x="571680" y="3581280"/>
            <a:ext cx="80010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5"/>
          <p:cNvSpPr/>
          <p:nvPr/>
        </p:nvSpPr>
        <p:spPr>
          <a:xfrm>
            <a:off x="876240" y="2575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y tea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6"/>
          <p:cNvSpPr/>
          <p:nvPr/>
        </p:nvSpPr>
        <p:spPr>
          <a:xfrm>
            <a:off x="1181160" y="38098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teachers to t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7"/>
          <p:cNvSpPr/>
          <p:nvPr/>
        </p:nvSpPr>
        <p:spPr>
          <a:xfrm>
            <a:off x="2133720" y="25750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keynote speaker, David War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8"/>
          <p:cNvSpPr/>
          <p:nvPr/>
        </p:nvSpPr>
        <p:spPr>
          <a:xfrm>
            <a:off x="2666880" y="38098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rning F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ruar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9"/>
          <p:cNvSpPr/>
          <p:nvPr/>
        </p:nvSpPr>
        <p:spPr>
          <a:xfrm>
            <a:off x="76320" y="32162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10"/>
          <p:cNvSpPr/>
          <p:nvPr/>
        </p:nvSpPr>
        <p:spPr>
          <a:xfrm>
            <a:off x="7581960" y="318456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1"/>
          <p:cNvSpPr/>
          <p:nvPr/>
        </p:nvSpPr>
        <p:spPr>
          <a:xfrm>
            <a:off x="3886200" y="25750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er workshop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2"/>
          <p:cNvSpPr/>
          <p:nvPr/>
        </p:nvSpPr>
        <p:spPr>
          <a:xfrm>
            <a:off x="5029200" y="38098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y tea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3"/>
          <p:cNvSpPr/>
          <p:nvPr/>
        </p:nvSpPr>
        <p:spPr>
          <a:xfrm>
            <a:off x="6515280" y="3809880"/>
            <a:ext cx="140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? – respond to the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4"/>
          <p:cNvSpPr/>
          <p:nvPr/>
        </p:nvSpPr>
        <p:spPr>
          <a:xfrm>
            <a:off x="5867280" y="2575080"/>
            <a:ext cx="18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eachers with lapt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5"/>
          <p:cNvSpPr/>
          <p:nvPr/>
        </p:nvSpPr>
        <p:spPr>
          <a:xfrm>
            <a:off x="7886880" y="2209680"/>
            <a:ext cx="125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with lapt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Picture 19" descr="j0234635"/>
          <p:cNvPicPr/>
          <p:nvPr/>
        </p:nvPicPr>
        <p:blipFill>
          <a:blip r:embed="rId1"/>
          <a:stretch/>
        </p:blipFill>
        <p:spPr>
          <a:xfrm>
            <a:off x="1181160" y="274680"/>
            <a:ext cx="138744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7:01:23Z</dcterms:created>
  <dc:creator>Julia Osteen</dc:creator>
  <dc:description/>
  <dc:language>en-US</dc:language>
  <cp:lastModifiedBy>juliaos</cp:lastModifiedBy>
  <dcterms:modified xsi:type="dcterms:W3CDTF">2009-03-19T12:31:11Z</dcterms:modified>
  <cp:revision>11</cp:revision>
  <dc:subject/>
  <dc:title>From Here to Relevance: A Web 2.0 Journey</dc:title>
</cp:coreProperties>
</file>